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26E6-6E30-4A3D-8FC4-2E917235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B5CF-A4DE-45C7-9512-7338309C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EC46-7B8C-4474-89F3-B604FB400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9BC-9714-48B6-8F47-6E2DF6864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9C12-EDEF-482C-854E-0286E5F5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392-799A-4B68-A83F-C59B31C0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84C8-DF8C-4DB2-A69C-5297C118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D86-4EB4-4DC7-B5DA-E555EEE6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64E-BBDE-412E-9848-4B4DDF63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DDE6-43EC-410B-B5E3-DFA3A75D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1D0-8488-4893-84F1-E5753ECE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EE8-4296-47A0-8CAD-82A12A45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8CF9-5598-4D04-9047-7871E334905C}" type="slidenum">
              <a:rPr b="0" lang="en-GB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5040" y="188640"/>
            <a:ext cx="77724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Optimal Feature Gene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0728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eneral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eature generation is a problem-dependent task. However, there are a few general directions common in a number of applications. We focus on three such alternativ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timized features based on Scatter matric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(Fisher’s linear discrimination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Given an original se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asurement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, by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inear transform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cattering matrix criterion involving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maximized.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n 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619280" y="3573360"/>
                <a:ext cx="8636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780000" y="3573360"/>
                <a:ext cx="8395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924360" y="4149720"/>
                <a:ext cx="1297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4552920" y="5402160"/>
                <a:ext cx="54288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  <m:r>
                      <m:rPr>
                        <m:lit/>
                        <m:nor/>
                      </m:rPr>
                      <m:t xml:space="preserve">x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43F1-053C-4370-ACF5-C9D5611CAFFD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space Classification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llowing the idea of projecting in a subspace, the subspace classificatio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ifi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 unknown      to the class whos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space is closer 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ollowing steps are in orde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ach class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stimate the autocorrelation matrix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nd compute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argest eigenvalu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For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by using respective eigenvectors as colum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ify      to the clas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which the norm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space projection is maximu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ording to Pythagoras theorem, this corresponds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subspa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which    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os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608200" y="101268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8001000" y="1004760"/>
                <a:ext cx="25416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792520" y="3660840"/>
                <a:ext cx="2556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21240" y="541332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594240" y="4437000"/>
                <a:ext cx="287784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&gt;</m:t>
                    </m:r>
                    <m:d>
                      <m:dPr>
                        <m:begChr m:val="‖"/>
                        <m:endChr m:val="‖"/>
                      </m:dPr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E999-B70C-4CB9-96CD-6CF6FD2D0B39}" type="slidenum">
              <a:t>10</a:t>
            </a:fld>
          </a:p>
        </p:txBody>
      </p:sp>
    </p:spTree>
  </p:cSld>
  <p:transition>
    <p:random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ndependent Component Analysis (IC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ontrast to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CA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re the goal was to produc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uncorrelat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eatures, the goal in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IC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o produc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istically independ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eatures. This is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uch stron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quirement, involving higher to second order statistics. In this way, one may overcome the problems of PCA, as exposed befo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: Given      , compu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that the components of  are statistically independent. In order  the problem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o have a solution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following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t be vali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that     is indeed generated by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 linear combin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depend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on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562200" y="298296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537160" y="2967120"/>
                <a:ext cx="8398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184640" y="3371760"/>
                <a:ext cx="1206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r>
                      <m:t xml:space="preserve">W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867280" y="3789360"/>
                <a:ext cx="2984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679920" y="4989600"/>
                <a:ext cx="2714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170240" y="5757840"/>
                <a:ext cx="114624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t xml:space="preserve">Φ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700F-EFCE-4092-BD72-D3C4C0AC1C8C}" type="slidenum">
              <a:t>11</a:t>
            </a:fld>
          </a:p>
        </p:txBody>
      </p:sp>
    </p:spTree>
  </p:cSld>
  <p:transition>
    <p:random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known a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x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emix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st be invertible or of full column ran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dentifiability condition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dependent component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on-Gaussi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us, in contrast to PCA that can always be performed, ICA is meaningful for non-Gaussian variables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der the above assumption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’s can be uniquely estimated, within a scalar fa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BA8C-7F77-4CC7-8DBC-8D01E92C6735}" type="slidenum">
              <a:t>12</a:t>
            </a:fld>
          </a:p>
        </p:txBody>
      </p:sp>
    </p:spTree>
  </p:cSld>
  <p:transition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ommon’s metho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Given   , and under the previously stated assumptions, the following steps are adopte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ep 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Perform PCA on     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ep 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Compute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unit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,   , so that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ourth order cross-cummula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transform v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re zer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is is equivalent to searching for an     that makes the squares of the auto-cummulants maximum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,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is the 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rder auto-cumulan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508720" y="189000"/>
                <a:ext cx="3380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729320" y="1270080"/>
                <a:ext cx="2556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211640" y="1700280"/>
                <a:ext cx="129708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940360" y="2349360"/>
                <a:ext cx="29232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165560" y="3213000"/>
                <a:ext cx="129708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</m:e>
                      <m:sup>
                        <m:r>
                          <m:t xml:space="preserve">T</m:t>
                        </m:r>
                      </m:sup>
                    </m:sSup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667640" y="3784680"/>
                <a:ext cx="29196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330720" y="4508640"/>
                <a:ext cx="334620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acc>
                          <m:accPr>
                            <m:chr m:val="^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lim>
                    </m:limLow>
                    <m:r>
                      <m:t xml:space="preserve">Ψ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871720" y="5589720"/>
                <a:ext cx="735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/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E2E5-D5C3-4E68-B211-E72ADA46D93A}" type="slidenum">
              <a:t>13</a:t>
            </a:fld>
          </a:p>
        </p:txBody>
      </p:sp>
    </p:spTree>
  </p:cSld>
  <p:transition>
    <p:random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07280" cy="581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ep 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hierarchy of components: whic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ℓ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o use? In PCA one chooses the principal ones. In ICA one can choose the ones with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least resemblance to the Gaussian pd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816280" y="174600"/>
                <a:ext cx="13269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A6F2-9E84-46B0-B10D-FB7362D56A7F}" type="slidenum">
              <a:t>14</a:t>
            </a:fld>
          </a:p>
        </p:txBody>
      </p:sp>
    </p:spTree>
  </p:cSld>
  <p:transition>
    <p:random/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71360" y="3933720"/>
            <a:ext cx="8893440" cy="249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incipal component is    , thus according to PCA one chooses a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the projection of      into      . According to ICA, one chooses a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ff33cc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rojection on     . This is the least Gaussian. Inde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 -1.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  0.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serve that across     , the statistics is </a:t>
            </a:r>
            <a:r>
              <a:rPr b="0" lang="en-US" sz="2200" spc="-1" strike="noStrike">
                <a:solidFill>
                  <a:srgbClr val="3333cc"/>
                </a:solidFill>
                <a:latin typeface="Verdana"/>
              </a:rPr>
              <a:t>bimodal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 That is, no resemblance to Gaussi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60280"/>
            <a:ext cx="82072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Example</a:t>
            </a:r>
            <a:r>
              <a:rPr b="0" lang="el-GR" sz="2400" spc="-1" strike="noStrike">
                <a:solidFill>
                  <a:srgbClr val="00cc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3371760" y="44280"/>
            <a:ext cx="5616720" cy="3816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5796000" y="4437000"/>
                <a:ext cx="411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α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788000" y="422100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356000" y="3933720"/>
                <a:ext cx="3794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α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5796000" y="4149720"/>
                <a:ext cx="3841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α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76720" y="5877000"/>
                <a:ext cx="4093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α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11E-5897-41D2-9CFB-4799458EFC16}" type="slidenum">
              <a:t>15</a:t>
            </a:fld>
          </a:p>
        </p:txBody>
      </p:sp>
    </p:spTree>
  </p:cSld>
  <p:transition>
    <p:random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0728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asic steps in the pro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trace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l-GR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ce{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}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maximum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olution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the matrix that diagonaliz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ultaneous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c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, i.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I , B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= 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a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ℓxℓ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 and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ℓxℓ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ag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ctr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B1BC-1DD8-4074-AEF3-0A793DBFCD9A}" type="slidenum">
              <a:t>2</a:t>
            </a:fld>
          </a:p>
        </p:txBody>
      </p:sp>
    </p:spTree>
  </p:cSld>
  <p:transition>
    <p:random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0728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3" marL="1504080" indent="-21456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=AB</a:t>
            </a:r>
            <a:r>
              <a:rPr b="0" lang="en-US" sz="2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mxℓ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.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ximiz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a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igenvalue-eigenvect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blem. For a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problem,     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s of rank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hoo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o consi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eigenvectors, corresponding to the non-zero eigenvalu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he above guarantees maximu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value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is ca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two-class problem, this results to the well know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Fisher’s linear discrimin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 algn="just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Gaussian classes, this is the optimal Bayesian classifier, with a difference of a threshold value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284720" y="779400"/>
                <a:ext cx="21589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b</m:t>
                            </m:r>
                          </m:sub>
                        </m:sSub>
                      </m:e>
                    </m:d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048280" y="1844640"/>
                <a:ext cx="8650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5049720" y="3070080"/>
                <a:ext cx="1236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067280" y="5013360"/>
                <a:ext cx="2465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S</m:t>
                        </m:r>
                      </m:e>
                      <m:sub>
                        <m:sSub>
                          <m:e/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sub>
                        </m:sSub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E34-7CA2-48E3-86C0-F463AE15E1CD}" type="slidenum">
              <a:t>3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07280" cy="574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&lt;M-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hoose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igenvectors corresponding to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st eigenvecto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is case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,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is there is loss of inform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eometric interpret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vector   i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roj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     onto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space spann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y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igen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          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278840" y="2003400"/>
                <a:ext cx="2919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3792600" y="2360520"/>
                <a:ext cx="264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4110120" y="2679840"/>
                <a:ext cx="86508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A07-E736-4FE2-96BF-F3C645B8FBDA}" type="slidenum">
              <a:t>4</a:t>
            </a:fld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Principal Compon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The Karhunen – Loève transform)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Given an original se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asurement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n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orthog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o that the elements of    ar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optimally mutually uncorrela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ketch of the proof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8172360" y="1125360"/>
                <a:ext cx="97164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843280" y="1557360"/>
                <a:ext cx="8398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187880" y="2060640"/>
                <a:ext cx="1033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740720" y="2781360"/>
                <a:ext cx="2649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281400" y="4205160"/>
                <a:ext cx="284004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110040" y="5343480"/>
                <a:ext cx="49910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A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B23-2628-4E9D-8201-071E2959D97A}" type="slidenum">
              <a:t>5</a:t>
            </a:fld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chosen so that its columns     are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orthogonal eigen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ag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elements the respectiv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igenvalue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serve that this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ffici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dition but not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cessar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t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impos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pecific orthog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tructure o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operties of the sol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ff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ean Square Error approxim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e to the orthogonality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093080" y="320760"/>
                <a:ext cx="331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a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4078440" y="1073160"/>
                <a:ext cx="22809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132000" y="4896000"/>
                <a:ext cx="3770280" cy="101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A08-9E8B-4789-89E2-7348AB4ADEED}" type="slidenum">
              <a:t>6</a:t>
            </a:fld>
          </a:p>
        </p:txBody>
      </p:sp>
    </p:spTree>
  </p:cSld>
  <p:transition>
    <p:random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just">
              <a:spcBef>
                <a:spcPts val="550"/>
              </a:spcBef>
              <a:buClr>
                <a:srgbClr val="000000"/>
              </a:buClr>
              <a:buSzPct val="10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550"/>
              </a:spcBef>
              <a:buClr>
                <a:srgbClr val="000000"/>
              </a:buClr>
              <a:buSzPct val="105000"/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Karhunen – Loève transform minimizes the square error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 algn="just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rror 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can be also shown that this 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minimum mean square error compared to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other representation of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by an </a:t>
            </a:r>
            <a:r>
              <a:rPr b="0" i="1" lang="en-US" sz="2200" spc="-1" strike="noStrike">
                <a:solidFill>
                  <a:srgbClr val="ff0000"/>
                </a:solidFill>
                <a:latin typeface="Tahoma"/>
              </a:rPr>
              <a:t>ℓ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-dimensional ve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4449600" y="476280"/>
                <a:ext cx="16700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a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708360" y="2133720"/>
                <a:ext cx="35370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ℓ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r>
                                      <m:t xml:space="preserve">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278240" y="3328920"/>
                <a:ext cx="252576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ℓ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803F-C22A-480F-81F8-82FDA2AC3C7A}" type="slidenum">
              <a:t>7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just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other words,      i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oj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     into the subspace spanned by the principal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ℓ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igenvectors. However, for Pattern Recognition this is not the always the best solu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716360" y="33336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7667640" y="333360"/>
                <a:ext cx="2556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916360" y="2276640"/>
            <a:ext cx="5327640" cy="377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C148-E53D-4D26-A564-73E91F3C2B92}" type="slidenum">
              <a:t>8</a:t>
            </a:fld>
          </a:p>
        </p:txBody>
      </p:sp>
    </p:spTree>
  </p:cSld>
  <p:transition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072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tal variance: It is easily seen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 Karhunen – Loève transform makes the total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axim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ing     to be a zero mean multivariat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aussian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n the K-L transform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aximizes the entropy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resulting     proce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635280" y="836640"/>
                <a:ext cx="27370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y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695760" y="2682720"/>
                <a:ext cx="280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4140360" y="4556160"/>
                <a:ext cx="280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863880" y="3860640"/>
                <a:ext cx="227484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sub>
                        </m:sSub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6D3-EBF3-49C1-A83E-2B3B70729146}" type="slidenum">
              <a:t>9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4T16:33:24Z</dcterms:created>
  <dc:creator>Theodore</dc:creator>
  <dc:description/>
  <dc:language>en-US</dc:language>
  <cp:lastModifiedBy>ST</cp:lastModifiedBy>
  <dcterms:modified xsi:type="dcterms:W3CDTF">2006-08-31T07:14:19Z</dcterms:modified>
  <cp:revision>159</cp:revision>
  <dc:subject/>
  <dc:title>Feature Generation</dc:title>
</cp:coreProperties>
</file>